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7A79-FD73-462B-973D-71858B66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4CE7-39FD-4691-AE51-26BE69B8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B54-A266-4F46-B589-1F931F98F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8E1B-3128-49CC-98EB-F002A909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72FB-BB46-49DA-B5C5-A08DA0CCB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CCC5-2C08-4819-ADB2-012C1BD3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9806-09E6-4C47-8EEA-6A8407E7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54D6-11B7-4966-BDD7-8F599472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474F1-B872-4577-A823-4389285C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F684-0110-4CE8-82C4-EB34C4E2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D5A6-1724-4C72-B112-FB8683AA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E08-8890-494E-96A8-DAF1C189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6F4B-F11A-4E45-820D-DF0FBD24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46A4-3630-4B4C-BB1B-966AD809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3361-3F52-40D5-BE18-554872E9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C816-15F9-45FD-A678-5633423F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CB66-91A2-481A-AE69-8C778819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977-6A91-40F7-93B4-7EBA31E8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8408-0629-408A-86E5-4A78FF9C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1776-EF19-4EAD-8130-8E4D467E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32C-A242-4D70-A10B-33BFD56F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CC9-AB35-4EFB-B6F1-79F5FD55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10F5-BAE7-49E3-A610-61F9B0B1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3D19-E671-4BF9-B12B-93C027F6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5D1B-BFAB-43DA-9BDE-F7E4A05F1A5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44E4-4EFB-4B0E-AD87-78AB0049CE2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cc66"/>
                </a:solidFill>
                <a:uFillTx/>
                <a:latin typeface="Times New Roman"/>
              </a:rPr>
              <a:t>Всероссийский конкурс</a:t>
            </a:r>
            <a:r>
              <a:rPr b="0" i="1" lang="ru-RU" sz="44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r>
              <a:rPr b="0" i="1" lang="ru-RU" sz="4000" spc="-1" strike="noStrike" u="sng">
                <a:solidFill>
                  <a:srgbClr val="ffcc66"/>
                </a:solidFill>
                <a:uFillTx/>
                <a:latin typeface="Times New Roman"/>
              </a:rPr>
              <a:t>библиотек</a:t>
            </a:r>
            <a:r>
              <a:rPr b="0" i="1" lang="ru-RU" sz="4400" spc="-1" strike="noStrike" u="sng">
                <a:solidFill>
                  <a:srgbClr val="ffcc66"/>
                </a:solidFill>
                <a:uFillTx/>
                <a:latin typeface="Times New Roman"/>
              </a:rPr>
              <a:t>  «БиблиОбраз»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cc66"/>
                </a:solidFill>
                <a:uFillTx/>
                <a:latin typeface="Times New Roman"/>
              </a:rPr>
              <a:t>Номинация: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«Окно в мир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cc66"/>
                </a:solidFill>
                <a:uFillTx/>
                <a:latin typeface="Times New Roman"/>
              </a:rPr>
              <a:t>Тема: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оздание коммуникативного пространства возможностями библиотек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cc66"/>
                </a:solidFill>
                <a:uFillTx/>
                <a:latin typeface="Times New Roman"/>
              </a:rPr>
              <a:t>Наш адрес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660094 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г.Красноярск, ул. Павлова, д.56, т. 60-05-7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-mal: dd3@krask.inf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МОУ Специальный (коррекционный) детский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дом №3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cc66"/>
                </a:solidFill>
                <a:uFillTx/>
                <a:latin typeface="Times New Roman"/>
              </a:rPr>
              <a:t>Место библиотеки в воспитательном и образовательном процессах детского дома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11280" y="2060640"/>
            <a:ext cx="8001000" cy="3825720"/>
            <a:chOff x="611280" y="2060640"/>
            <a:chExt cx="8001000" cy="3825720"/>
          </a:xfrm>
        </p:grpSpPr>
        <p:sp>
          <p:nvSpPr>
            <p:cNvPr id="125" name=""/>
            <p:cNvSpPr/>
            <p:nvPr/>
          </p:nvSpPr>
          <p:spPr>
            <a:xfrm>
              <a:off x="3560400" y="2135520"/>
              <a:ext cx="1501560" cy="3750840"/>
            </a:xfrm>
            <a:prstGeom prst="ellipse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 rot="5400000">
              <a:off x="2969640" y="3782160"/>
              <a:ext cx="2519280" cy="4572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eaeaea"/>
                  </a:solidFill>
                  <a:latin typeface="Arial"/>
                </a:rPr>
                <a:t>БИБЛИОТЕКА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aeaea"/>
                </a:solidFill>
                <a:latin typeface="Arial"/>
                <a:ea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1280" y="2152080"/>
              <a:ext cx="2689560" cy="550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Arial"/>
                </a:rPr>
                <a:t>УРОК</a:t>
              </a:r>
              <a:endParaRPr b="0" lang="en-US" sz="2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1280" y="2985840"/>
              <a:ext cx="518760" cy="2775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16600" y="3098160"/>
              <a:ext cx="1774800" cy="524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ЭКОЛОГИЧЕСКОЕ ВОСПИТАНИЕ И ОБРАЗОВАНИЕ (ЗДОРОВЫЙ ОБРАЗ ЖИЗНИ)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30280" y="3861000"/>
              <a:ext cx="1774800" cy="662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КОММУНИКАТИВНОЕ ПОЛЕ: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РОДИТЕЛИ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ПЕДАГОГИ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УЧЕНИКИ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00440" y="4160880"/>
              <a:ext cx="1146600" cy="16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СОЦИАЛЬНАЯ АДАПТАЦИЯ УЧАЩИХСЯ В СОВРЕМЕН-НОМ  МИРЕ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73080" y="2910600"/>
              <a:ext cx="1160280" cy="10627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СОХРАНЕНИЕ ЗДОРОВЬЯ УЧАЩЕГОСЯ,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</a:rPr>
                <a:t>ФОРМИРОВАНИЕ ЭКОЛОГИЧЕСОГО ОБРАЗА ЖИЗНИ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45720" y="2060640"/>
              <a:ext cx="1173960" cy="749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ИНФОРМА-ЦИОННАЯ ПОДДЕРЖКА</a:t>
              </a:r>
              <a:r>
                <a:rPr b="0" lang="ru-RU" sz="2400" spc="-1" strike="noStrike">
                  <a:solidFill>
                    <a:srgbClr val="eaeaea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 rot="5400000">
              <a:off x="-274680" y="4156560"/>
              <a:ext cx="2331720" cy="24552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eaeaea"/>
                  </a:solidFill>
                  <a:latin typeface="Arial"/>
                </a:rPr>
                <a:t>ВОСПИТАТЕЛЬНАЯ     РАБОТА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aeaea"/>
                </a:solidFill>
                <a:latin typeface="Arial"/>
                <a:ea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16600" y="4761000"/>
              <a:ext cx="1761120" cy="649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ПОСТРОЕНИЕ ЖИЗНЕННЫХ ПЕРСПЕКТИВ (ПРОФОРИЕНАЦИЯ</a:t>
              </a:r>
              <a:r>
                <a:rPr b="0" lang="ru-RU" sz="1000" spc="-1" strike="noStrike">
                  <a:solidFill>
                    <a:srgbClr val="eaeaea"/>
                  </a:solidFill>
                  <a:latin typeface="Times New Roman"/>
                </a:rPr>
                <a:t>)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87160" y="2297880"/>
              <a:ext cx="3126600" cy="212400"/>
            </a:xfrm>
            <a:prstGeom prst="rightArrow">
              <a:avLst>
                <a:gd name="adj1" fmla="val 50000"/>
                <a:gd name="adj2" fmla="val 368008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71400" y="3623400"/>
              <a:ext cx="901080" cy="837720"/>
            </a:xfrm>
            <a:custGeom>
              <a:avLst/>
              <a:gdLst>
                <a:gd name="textAreaLeft" fmla="*/ 140760 w 901080"/>
                <a:gd name="textAreaRight" fmla="*/ 788760 w 901080"/>
                <a:gd name="textAreaTop" fmla="*/ 209520 h 837720"/>
                <a:gd name="textAreaBottom" fmla="*/ 62856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14520" y="3298320"/>
              <a:ext cx="95400" cy="1850400"/>
            </a:xfrm>
            <a:custGeom>
              <a:avLst/>
              <a:gdLst>
                <a:gd name="textAreaLeft" fmla="*/ 0 w 95400"/>
                <a:gd name="textAreaRight" fmla="*/ 34560 w 95400"/>
                <a:gd name="textAreaTop" fmla="*/ 48240 h 1850400"/>
                <a:gd name="textAreaBottom" fmla="*/ 1802160 h 185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30040" y="3398400"/>
              <a:ext cx="245520" cy="212400"/>
            </a:xfrm>
            <a:prstGeom prst="rightArrow">
              <a:avLst>
                <a:gd name="adj1" fmla="val 50000"/>
                <a:gd name="adj2" fmla="val 28898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70720" y="4123440"/>
              <a:ext cx="245520" cy="212400"/>
            </a:xfrm>
            <a:prstGeom prst="rightArrow">
              <a:avLst>
                <a:gd name="adj1" fmla="val 50000"/>
                <a:gd name="adj2" fmla="val 28898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720" y="4961160"/>
              <a:ext cx="245520" cy="212400"/>
            </a:xfrm>
            <a:prstGeom prst="rightArrow">
              <a:avLst>
                <a:gd name="adj1" fmla="val 50000"/>
                <a:gd name="adj2" fmla="val 28898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29120" y="2410560"/>
              <a:ext cx="395640" cy="2800440"/>
            </a:xfrm>
            <a:custGeom>
              <a:avLst/>
              <a:gdLst>
                <a:gd name="textAreaLeft" fmla="*/ 0 w 395640"/>
                <a:gd name="textAreaRight" fmla="*/ 142920 w 395640"/>
                <a:gd name="textAreaTop" fmla="*/ 72720 h 2800440"/>
                <a:gd name="textAreaBottom" fmla="*/ 2727720 h 280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34560" y="2297880"/>
              <a:ext cx="477720" cy="3175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 rot="5400000">
              <a:off x="7373520" y="3834720"/>
              <a:ext cx="2012760" cy="1774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eaeaea"/>
                  </a:solidFill>
                  <a:latin typeface="Arial"/>
                </a:rPr>
                <a:t>ПОЛНОЦЕННАЯ  ЛИЧНОСТЬ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aeaea"/>
                </a:solidFill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cc66"/>
                </a:solidFill>
                <a:uFillTx/>
                <a:latin typeface="Times New Roman"/>
              </a:rPr>
              <a:t>Актуализация представленной  модели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30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В современном мире ребенок оказывается в потоке разнообразной информации источниками которой являются разные носители: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spcBef>
                <a:spcPts val="34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СМИ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spcBef>
                <a:spcPts val="34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социальное окружение (семья, друзья, компания и  т.д.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spcBef>
                <a:spcPts val="34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среда (город, деревня, природа и т.д.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spcBef>
                <a:spcPts val="34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школа, детский-дом и т.д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Не всегда эта информация носит позитивный характер. Представленная модель позволяет сфокусировать и очистить потоки информации, предлагает ее в адаптированном для учащегося виде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Библиотека предлагает различные методики и формы работы с информацией, опираясь на личностно-ориентированный подход к читателю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Проекты детского-дома («Книжкина неделя», «Кукла в коррекционном пространстве», «Экологический марафон», экспресс выставки, выставки- рассуждения, вернисажи, «школа-сад», игровые программы, игры-путешествия, акции «Помоги пернатым друзьям», «Они просят вашей защиты» и  т.д.) работают на базе библиотеки, способствуют адаптации ребенка в современном мире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51000"/>
            <a:ext cx="7772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cc66"/>
                </a:solidFill>
                <a:uFillTx/>
                <a:latin typeface="Times New Roman"/>
              </a:rPr>
              <a:t>Формы работы библиотеки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84360" y="981000"/>
          <a:ext cx="7926120" cy="5210280"/>
        </p:xfrm>
        <a:graphic>
          <a:graphicData uri="http://schemas.openxmlformats.org/drawingml/2006/table">
            <a:tbl>
              <a:tblPr/>
              <a:tblGrid>
                <a:gridCol w="1871640"/>
                <a:gridCol w="6054480"/>
              </a:tblGrid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аправление работ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9888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кологическое образовани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формационная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8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естирование, анкетирование «Не только в гости ждет тебя природа»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6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етодические картотеки :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«Разговор всерьез» (о наркомании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«Путешествие в Природоград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раеведческая картотека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6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тавки книг: «Россия - родина моя», «Наш Красноярский край», выставки – вернисажи: «Очарование русского пейзажа, выставка – рассуждение:«Будь человеком Человек!»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массовая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05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недели экологической культуры  девиз «Живи земля»: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нкурс экологического плаката «Природа вызывает 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SOS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»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ии: «Помоги пернатым друзьям», «Они просят Вашей защиты», «Помощь» (ежеквартальный сбор корма для животных и птиц заповедника «Столбы» и «Роев ручей»,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«Береги красавицу елку», «Превратим школу, в школу – сад»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cc66"/>
                </a:solidFill>
                <a:uFillTx/>
                <a:latin typeface="Times New Roman"/>
              </a:rPr>
              <a:t>Формы работы библиотеки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4360" y="1341360"/>
          <a:ext cx="7772400" cy="4660920"/>
        </p:xfrm>
        <a:graphic>
          <a:graphicData uri="http://schemas.openxmlformats.org/drawingml/2006/table">
            <a:tbl>
              <a:tblPr/>
              <a:tblGrid>
                <a:gridCol w="1834920"/>
                <a:gridCol w="59374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аправление работ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8432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кологическое образовани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Декадник: «Живая планета»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Выставки, конкурс рисунков и поделок из природного материала «Природа и фантазия», сочинения «Мир заповедной природы», акции, беседы «Беды зеленого царства», «Слезы новогодней елки», викторина «Люби, знай, охраняй», пресс-конференция «Что мы оставим потомкам своим», час поэзии «О природе тихим голосом», «С любовью к природе», библиотечные уроки, экологическое лото «Мир родной природы», познавательные игры «Зов джунглей», «лесной серпантин».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9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гровые программы  «На лесной полянке»: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9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еатрализованное представление «Маленькое путешествие в большой лес», репортаж с крестьянского двора (о дом. животных), встреча с музыкой «Явления природы», экологический репортаж «Врач лечит, природа исцеляет», игра – путешествие «Море и его богатство», Экологическое «казино», КВН «в согласии с природой», Звездный час «Жемчужины природы – заповедники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ог –шоу «Сто друзей, сто – мастей», познавательная игра «Войди в природу другом» 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cc66"/>
                </a:solidFill>
                <a:uFillTx/>
                <a:latin typeface="Times New Roman"/>
              </a:rPr>
              <a:t>Формы работы библиотеки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00000" y="1413000"/>
          <a:ext cx="7689960" cy="4410000"/>
        </p:xfrm>
        <a:graphic>
          <a:graphicData uri="http://schemas.openxmlformats.org/drawingml/2006/table">
            <a:tbl>
              <a:tblPr/>
              <a:tblGrid>
                <a:gridCol w="1816200"/>
                <a:gridCol w="5873760"/>
              </a:tblGrid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аправление работ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04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кологическое образовани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«Родительский ликбез»</a:t>
                      </a: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4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нкет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емейные праздники «В судьбе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природы наша судьба», конкурсы, викторины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63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кологическое воспитани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Методическое обеспечение</a:t>
                      </a:r>
                      <a:r>
                        <a:rPr b="0" lang="ru-RU" sz="2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«Человек и окружающая среда»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78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Библиографические обзоры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ни информации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Методические картотеки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: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«Разговор всерьез» (о наркомании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«Путешествие в Природоград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Краеведческая картотека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cc66"/>
                </a:solidFill>
                <a:uFillTx/>
                <a:latin typeface="Times New Roman"/>
              </a:rPr>
              <a:t>Формы работы библиотеки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98400" y="1665360"/>
          <a:ext cx="7772400" cy="4000320"/>
        </p:xfrm>
        <a:graphic>
          <a:graphicData uri="http://schemas.openxmlformats.org/drawingml/2006/table">
            <a:tbl>
              <a:tblPr/>
              <a:tblGrid>
                <a:gridCol w="1835280"/>
                <a:gridCol w="5937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Направление работ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формы работ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248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кологическое воспитани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ерантность работы в библиотеке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Во всех мероприятиях активное участие принимают любимые детьми куклы, главные помощники библиотекаря.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29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проект «Кукла в коррекционном пространстве»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«Королева книги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«Буквоешка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«Книжкин доктор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«Эколюдик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игровые программы: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«Филя в стране «Чистюлии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«Как медведь трубку курил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«Как Хрюша и Каркуша зверей спасали»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lvl="1" marL="45720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«Книжкина неделя» (традиция 15 лет)</a:t>
                      </a:r>
                      <a:endParaRPr b="0" lang="en-US" sz="12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cc66"/>
                </a:solidFill>
                <a:uFillTx/>
                <a:latin typeface="Times New Roman"/>
              </a:rPr>
              <a:t>Наш опыт был заслушан и оценен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Краевой смотр конкурс работы библиотек                                                1999 г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Грамота Управления экологии администрации Красноярского края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За развитие творческих способностей детей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приз Федерации профсоюзов Красноярского края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за работу по привлечению     семьи к экологическому воспитанию детей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Краевая радиовикторина «Природы мир загадочный и странный»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Краевой семинар «Экология и библиотека. Проблемы просвещения.»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2000 г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Городской семинар «Проблемы экологического просвещения. Пути их решения»                                                                                                2001 г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Районный семинар «Роль библиотек в пропаганде литературы о природе и ее охране»                                                                                                   2002 г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Круглый стол «Экология. Раздумья. Поиски»                                         2002 г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Районное МО мастер класс Старовойтовой Л.Н. «Педагогический потенциал школьной библиотеки».                                                                       2002 г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Городской смотр-конкурс библиотек                                                       2002 г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Родительское собрание «Сохраним природу для потомков»                2003 г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cc66"/>
                </a:solidFill>
                <a:uFillTx/>
                <a:latin typeface="Times New Roman"/>
              </a:rPr>
              <a:t>Статистика</a:t>
            </a:r>
            <a:r>
              <a:rPr b="0" lang="ru-RU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480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cc66"/>
                </a:solidFill>
                <a:uFillTx/>
                <a:latin typeface="Times New Roman"/>
              </a:rPr>
              <a:t>Сведения о детском доме № 3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Всего учащихся                                241 че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из них сирот                        90 чел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сло читателей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(в том числе родители и учителя)   320 чел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cc66"/>
                </a:solidFill>
                <a:uFillTx/>
                <a:latin typeface="Times New Roman"/>
              </a:rPr>
              <a:t>Сведения о </a:t>
            </a:r>
            <a:r>
              <a:rPr b="0" i="1" lang="ru-RU" sz="3200" spc="-1" strike="noStrike" u="sng">
                <a:solidFill>
                  <a:srgbClr val="ffcc66"/>
                </a:solidFill>
                <a:uFillTx/>
                <a:latin typeface="Times New Roman"/>
                <a:ea typeface="Times New Roman"/>
              </a:rPr>
              <a:t>фонде библиотеки</a:t>
            </a:r>
            <a:r>
              <a:rPr b="0" i="1" lang="ru-RU" sz="3200" spc="-1" strike="noStrike" u="sng">
                <a:solidFill>
                  <a:srgbClr val="ffcc66"/>
                </a:solidFill>
                <a:uFillTx/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бъем основного фонда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11000 экз. кни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фонда учебной литературы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6000 экз. кни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обращаемость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фонда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за год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1,1 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cc66"/>
                </a:solidFill>
                <a:uFillTx/>
                <a:latin typeface="Times New Roman"/>
              </a:rPr>
              <a:t>Библиотека, как структурное подразделение школы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штат -1 чел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Заведующая</a:t>
            </a: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библиотекой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таровойтов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Любов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икитичн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952 г.рождения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Образование - высше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библиотечный стаж работы -27 лет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0 лет в краевой юношеской библиотеке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imes New Roman"/>
              </a:rPr>
              <a:t>17 лет – в библиотеке данного детского дома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429000" cy="34545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cc66"/>
                </a:solidFill>
                <a:uFillTx/>
                <a:latin typeface="Times New Roman"/>
              </a:rPr>
              <a:t>Проект работы школьной библиотеки</a:t>
            </a:r>
            <a:r>
              <a:rPr b="0" lang="ru-RU" sz="3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cc66"/>
                </a:solidFill>
                <a:uFillTx/>
                <a:latin typeface="Times New Roman"/>
              </a:rPr>
              <a:t>Тема: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Создание  нового коммуникативного пространства для детей возможностями библиотек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cc66"/>
                </a:solidFill>
                <a:uFillTx/>
                <a:latin typeface="Times New Roman"/>
              </a:rPr>
              <a:t>Анализ ситуации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аличие конфликтов, не умение их разрешит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Низкий культурный, образовательный уровень детей не позволяет общаться содержательно, дети общаются на потребительских и эмоциональных уровнях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граниченные возможности здоровья (как психические, так и соматически) препятствуют вхождению ребенка в коммуникативное пространство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cc66"/>
                </a:solidFill>
                <a:uFillTx/>
                <a:latin typeface="Times New Roman"/>
              </a:rPr>
              <a:t>Проблем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В особых условиях коррекционного детского дома традиционные формы работы библиотеки не дают положительного результата, требуется особый подход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cc66"/>
                </a:solidFill>
                <a:uFillTx/>
                <a:latin typeface="Times New Roman"/>
              </a:rPr>
              <a:t>Гипоте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3429000"/>
            <a:ext cx="3962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Библиотека, как место коммуникативного общения учащихся, способствует формированию качеств необходимых ребенку для успешной адаптации в обществе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800600" y="1752480"/>
            <a:ext cx="3809880" cy="2930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277344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cc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cc66"/>
                </a:solidFill>
                <a:uFillTx/>
                <a:latin typeface="Times New Roman"/>
              </a:rPr>
              <a:t>Цели и задачи библиотек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cc66"/>
                </a:solidFill>
                <a:uFillTx/>
                <a:latin typeface="Times New Roman"/>
              </a:rPr>
              <a:t>Цель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Ф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рмирование на базе библиотеки коммуникативного пространства, способствующего  индивидуальному развитию ребенка, сохранению его здоровь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i="1" lang="ru-RU" sz="2800" spc="-1" strike="noStrike" u="sng">
                <a:solidFill>
                  <a:srgbClr val="ffcc66"/>
                </a:solidFill>
                <a:uFillTx/>
                <a:latin typeface="Times New Roman"/>
              </a:rPr>
              <a:t>Задачи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пределить место библиотеки в воспитательной системе детского дом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Описать модель коммуникативного пространства библиотеки детского дом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ыработать общие коммуникативные нормы (учитель - ученик, ученик - ученик, ученик - родители - учителя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cc66"/>
                </a:solidFill>
                <a:uFillTx/>
                <a:latin typeface="Times New Roman"/>
              </a:rPr>
              <a:t>Предполагаемый результат реализации проекта: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Адаптация ребенка в современном мире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умение разрешать конфликт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вышение самооценк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коммуникативная активность ребен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повышение общей культур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Здоровье ребен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cc66"/>
                </a:solidFill>
                <a:uFillTx/>
                <a:latin typeface="Times New Roman"/>
              </a:rPr>
              <a:t>Место библиотеки в учебно-воспитательном процессе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cc66"/>
                </a:solidFill>
                <a:uFillTx/>
                <a:latin typeface="Times New Roman"/>
              </a:rPr>
              <a:t>Цель системы воспитания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Интеграция ребенка в социальную среду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cc66"/>
                </a:solidFill>
                <a:uFillTx/>
                <a:latin typeface="Times New Roman"/>
              </a:rPr>
              <a:t>Задачи воспитательной системы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оздание коммуникативного пол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Введение воспитательных и педагогических технологий для развития отношений по принципу толерантност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Создание коммуникативных связей с другими образовательными учреждениями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3T14:44:48Z</dcterms:created>
  <dc:creator>марина</dc:creator>
  <dc:description/>
  <dc:language>en-US</dc:language>
  <cp:lastModifiedBy>Галя</cp:lastModifiedBy>
  <dcterms:modified xsi:type="dcterms:W3CDTF">2003-02-05T21:46:09Z</dcterms:modified>
  <cp:revision>15</cp:revision>
  <dc:subject/>
  <dc:title>Всероссийский конкурс библиотек  «БиблиОбраз»</dc:title>
</cp:coreProperties>
</file>