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679-2AF2-4692-88FB-A638A11F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B28-2CCD-4EA4-95BD-8A3A4D3D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265-6E09-42A5-AB96-9BB231A2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1B5-AF69-4787-BCAA-0B5387F8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808A-FE13-4178-B405-5C8BE483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59F7-1A92-4F3B-9022-0ACE4E17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48DB-803A-474B-975F-2A3F3B28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E5BB-B351-4794-9585-CFC746B0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DEE6-0934-42DB-A073-047D9BF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A34C-3C20-45E4-994D-809570FA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105A-A61D-49ED-80D2-312677A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ED6-7C97-4E27-95B3-10DF869C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F47-C95E-4C6A-9160-B6E41C33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D703-9B2B-4D37-9F8A-D20F3B38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E843-4112-43B0-A328-EDB64668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6298-C22F-4E0A-A99D-71854E1A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8F09-BBCB-4D70-947C-84B6FE35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1FE-AC5B-4611-89F0-FFA91FE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4FE-9C28-4969-8A1E-857EC47F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AC0-4F25-4CCE-9FC1-AA7B1A76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806-2737-4AE9-B2D3-0040F39F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58D-F38B-46ED-B476-8568FE41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481-0162-4188-A13F-90B1B3ED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66D-44B1-47E1-8A08-4D0671BB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3244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BF1D-EF44-40AE-9BA6-BAC346A54D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2F16-7FBD-48DF-9C53-103320ABD7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55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Arial"/>
              </a:rPr>
              <a:t>Проект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7040" y="1062000"/>
            <a:ext cx="8610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Усовершенствование Экраноплана при помощи ЭГР двигател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374184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ицкий Макси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 клас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мназия №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3809880"/>
            <a:ext cx="3048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Научный руководит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митриев Сергей Анатольевич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 ТР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Разрешение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заставить дугу двигаться со сверхзвуковой скоростью в 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71800" y="600552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зырь препятствует передачи энергии от пла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93880" y="2840040"/>
            <a:ext cx="5549760" cy="3111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90560" y="3989520"/>
            <a:ext cx="5085000" cy="153720"/>
          </a:xfrm>
          <a:custGeom>
            <a:avLst/>
            <a:gdLst>
              <a:gd name="textAreaLeft" fmla="*/ 0 w 5085000"/>
              <a:gd name="textAreaRight" fmla="*/ 5085360 w 50850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90560" y="4505400"/>
            <a:ext cx="5158080" cy="164880"/>
          </a:xfrm>
          <a:custGeom>
            <a:avLst/>
            <a:gdLst>
              <a:gd name="textAreaLeft" fmla="*/ 0 w 5158080"/>
              <a:gd name="textAreaRight" fmla="*/ 5158440 w 515808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554360" y="4152960"/>
            <a:ext cx="495360" cy="388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63920" y="4373640"/>
            <a:ext cx="1532160" cy="13255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363920" y="3159000"/>
            <a:ext cx="1532160" cy="11779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024360" y="4351320"/>
            <a:ext cx="1149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rot="16200000">
            <a:off x="4687560" y="4068720"/>
            <a:ext cx="406440" cy="542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Разрешение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492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заставить дугу двигаться со сверхзвуковой скоростью в 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71800" y="5975280"/>
            <a:ext cx="30481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уга постоянно прижимается к во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7680" y="21621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ff"/>
                </a:solidFill>
                <a:latin typeface="Arial Black"/>
              </a:rPr>
              <a:t>Получим непрерывную ударную волн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93880" y="2840040"/>
            <a:ext cx="5549760" cy="3111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90560" y="3989520"/>
            <a:ext cx="5085000" cy="153720"/>
          </a:xfrm>
          <a:custGeom>
            <a:avLst/>
            <a:gdLst>
              <a:gd name="textAreaLeft" fmla="*/ 0 w 5085000"/>
              <a:gd name="textAreaRight" fmla="*/ 5085360 w 50850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90560" y="4505400"/>
            <a:ext cx="5158080" cy="164880"/>
          </a:xfrm>
          <a:custGeom>
            <a:avLst/>
            <a:gdLst>
              <a:gd name="textAreaLeft" fmla="*/ 0 w 5158080"/>
              <a:gd name="textAreaRight" fmla="*/ 5158440 w 515808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46400" y="4152960"/>
            <a:ext cx="495360" cy="388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60920" y="4373640"/>
            <a:ext cx="1531800" cy="13255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792600" y="3159000"/>
            <a:ext cx="1531800" cy="11779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515680" y="4351320"/>
            <a:ext cx="114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rot="16200000">
            <a:off x="4020840" y="4068720"/>
            <a:ext cx="406440" cy="542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52280" y="2062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В результате проделанной работы была смоделирована конструкция электрогидрореактивного двига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7520" y="1949400"/>
            <a:ext cx="6481800" cy="46688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6024600" y="3289320"/>
            <a:ext cx="3087720" cy="2230560"/>
          </a:xfrm>
          <a:prstGeom prst="rect">
            <a:avLst/>
          </a:prstGeom>
          <a:ln w="0">
            <a:noFill/>
          </a:ln>
        </p:spPr>
      </p:pic>
    </p:spTree>
  </p:cSld>
  <p:transition spd="med" advTm="35000"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3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700"/>
                            </p:stCondLst>
                            <p:childTnLst>
                              <p:par>
                                <p:cTn id="175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200"/>
                            </p:stCondLst>
                            <p:childTnLst>
                              <p:par>
                                <p:cTn id="179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52280" y="2062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Устройство компактно, создаёт высокие давления, не содержит движущихся дета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7520" y="1949400"/>
            <a:ext cx="6481800" cy="46688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024600" y="3289320"/>
            <a:ext cx="3087720" cy="2230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3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95280" y="107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66"/>
                </a:solidFill>
                <a:latin typeface="Times New Roman"/>
              </a:rPr>
              <a:t>Экраноплан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163520" y="1136520"/>
            <a:ext cx="7078680" cy="2673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27120" y="3816360"/>
            <a:ext cx="6276960" cy="2824200"/>
          </a:xfrm>
          <a:prstGeom prst="rect">
            <a:avLst/>
          </a:prstGeom>
          <a:ln w="0">
            <a:noFill/>
          </a:ln>
        </p:spPr>
      </p:pic>
    </p:spTree>
  </p:cSld>
  <p:transition advTm="41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107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66"/>
                </a:solidFill>
                <a:latin typeface="Times New Roman"/>
              </a:rPr>
              <a:t>Достоинств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50720" y="1884240"/>
            <a:ext cx="1700280" cy="3468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614680" y="1411200"/>
            <a:ext cx="65293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изна предлагаемого транспортного 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ная ниша (от 100км\ч до 200 км\ч) между морским судном (до 100км\ч) и самолётом (от 200км\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 применения: акватории рек, озёр, мор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зимый груз: сотни то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ая шум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489040" y="2536920"/>
            <a:ext cx="4010040" cy="1974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95280" y="107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66"/>
                </a:solidFill>
                <a:latin typeface="Times New Roman"/>
              </a:rPr>
              <a:t>Экранный эффект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rot="1284600">
            <a:off x="3850200" y="4624200"/>
            <a:ext cx="3657600" cy="7617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357184"/>
                <a:lnTo>
                  <a:pt x="19829" y="13893"/>
                </a:lnTo>
                <a:lnTo>
                  <a:pt x="17280" y="0"/>
                </a:lnTo>
                <a:lnTo>
                  <a:pt x="11189" y="13893"/>
                </a:lnTo>
                <a:lnTo>
                  <a:pt x="13349" y="13893"/>
                </a:lnTo>
                <a:arcTo wR="7560" hR="21600" stAng="4042816" swAng="99975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rot="1099200">
            <a:off x="4857840" y="4552560"/>
            <a:ext cx="3657600" cy="76212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282843"/>
                <a:lnTo>
                  <a:pt x="19676" y="14396"/>
                </a:lnTo>
                <a:lnTo>
                  <a:pt x="17280" y="0"/>
                </a:lnTo>
                <a:lnTo>
                  <a:pt x="11036" y="14396"/>
                </a:lnTo>
                <a:lnTo>
                  <a:pt x="13196" y="14396"/>
                </a:lnTo>
                <a:arcTo wR="7560" hR="21600" stAng="4117157" swAng="92540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b5e0e3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969696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476520" y="2365200"/>
            <a:ext cx="4295880" cy="2279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107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66"/>
                </a:solidFill>
                <a:latin typeface="Times New Roman"/>
              </a:rPr>
              <a:t>Экранный эффект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0169000">
            <a:off x="2473200" y="5057280"/>
            <a:ext cx="3657600" cy="76212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357184"/>
                <a:lnTo>
                  <a:pt x="19829" y="13893"/>
                </a:lnTo>
                <a:lnTo>
                  <a:pt x="17280" y="0"/>
                </a:lnTo>
                <a:lnTo>
                  <a:pt x="11189" y="13893"/>
                </a:lnTo>
                <a:lnTo>
                  <a:pt x="13349" y="13893"/>
                </a:lnTo>
                <a:arcTo wR="7560" hR="21600" stAng="4042816" swAng="99975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0169000">
            <a:off x="1326960" y="5097240"/>
            <a:ext cx="3657600" cy="7617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282843"/>
                <a:lnTo>
                  <a:pt x="19676" y="14396"/>
                </a:lnTo>
                <a:lnTo>
                  <a:pt x="17280" y="0"/>
                </a:lnTo>
                <a:lnTo>
                  <a:pt x="11036" y="14396"/>
                </a:lnTo>
                <a:lnTo>
                  <a:pt x="13196" y="14396"/>
                </a:lnTo>
                <a:arcTo wR="7560" hR="21600" stAng="4117157" swAng="92540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b5e0e3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08720"/>
            <a:ext cx="9144000" cy="441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969696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1000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-16200"/>
            <a:ext cx="533412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Times New Roman"/>
              </a:rPr>
              <a:t>Экраноплан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39" name="5" descr="5.jpg (15835 bytes)"/>
          <p:cNvPicPr/>
          <p:nvPr/>
        </p:nvPicPr>
        <p:blipFill>
          <a:blip r:embed="rId1"/>
          <a:stretch/>
        </p:blipFill>
        <p:spPr>
          <a:xfrm>
            <a:off x="4491000" y="1357200"/>
            <a:ext cx="4110120" cy="2706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28480" y="1138320"/>
            <a:ext cx="356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Экранопла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это крылатый летательный аппарат, совершающий крейсерский полёт в непосредственной близости от экр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5120" y="4843440"/>
            <a:ext cx="834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движения использую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урбовинтовые двигател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Недостатками является большая шумность, опасная близость вращающихся лопа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7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494320" y="3809880"/>
            <a:ext cx="3294000" cy="2260800"/>
          </a:xfrm>
          <a:prstGeom prst="ellipse">
            <a:avLst/>
          </a:prstGeom>
          <a:solidFill>
            <a:srgbClr val="6699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Times New Roman"/>
              </a:rPr>
              <a:t>Эффект Юткин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265800" y="1887480"/>
            <a:ext cx="1928160" cy="3547440"/>
            <a:chOff x="6265800" y="1887480"/>
            <a:chExt cx="1928160" cy="3547440"/>
          </a:xfrm>
        </p:grpSpPr>
        <p:sp>
          <p:nvSpPr>
            <p:cNvPr id="345" name=""/>
            <p:cNvSpPr/>
            <p:nvPr/>
          </p:nvSpPr>
          <p:spPr>
            <a:xfrm flipH="1" rot="16200000">
              <a:off x="5165640" y="3270960"/>
              <a:ext cx="3079440" cy="312120"/>
            </a:xfrm>
            <a:custGeom>
              <a:avLst/>
              <a:gdLst>
                <a:gd name="textAreaLeft" fmla="*/ 360 w 3079440"/>
                <a:gd name="textAreaRight" fmla="*/ 3080160 w 307944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rot="16200000">
              <a:off x="6049080" y="3270960"/>
              <a:ext cx="3079440" cy="312120"/>
            </a:xfrm>
            <a:custGeom>
              <a:avLst/>
              <a:gdLst>
                <a:gd name="textAreaLeft" fmla="*/ 360 w 3079440"/>
                <a:gd name="textAreaRight" fmla="*/ 3080160 w 307944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rot="10800000">
              <a:off x="6711480" y="4578120"/>
              <a:ext cx="898920" cy="656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16200000">
              <a:off x="6884640" y="4339800"/>
              <a:ext cx="582840" cy="130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rot="16200000">
              <a:off x="6767640" y="4008600"/>
              <a:ext cx="924120" cy="1928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 rot="1126200">
            <a:off x="6243480" y="4216320"/>
            <a:ext cx="2105280" cy="1549440"/>
          </a:xfrm>
          <a:prstGeom prst="irregularSeal2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6360" y="117144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агается поставить на экраноплан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ЭГР двигател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работающие на основе эффекта Ютк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0280" y="3160800"/>
            <a:ext cx="5422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5e0e3"/>
                </a:solidFill>
                <a:latin typeface="Times New Roman"/>
              </a:rPr>
              <a:t>Эффект Ютки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робое электрической дуг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кипает в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уется паровой пузыр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никает ударная вол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6000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3" presetSubtype="28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569520" y="1171440"/>
            <a:ext cx="4549680" cy="4950000"/>
            <a:chOff x="569520" y="1171440"/>
            <a:chExt cx="4549680" cy="4950000"/>
          </a:xfrm>
        </p:grpSpPr>
        <p:sp>
          <p:nvSpPr>
            <p:cNvPr id="354" name=""/>
            <p:cNvSpPr/>
            <p:nvPr/>
          </p:nvSpPr>
          <p:spPr>
            <a:xfrm rot="5376600">
              <a:off x="1048320" y="2047320"/>
              <a:ext cx="3592080" cy="4525200"/>
            </a:xfrm>
            <a:prstGeom prst="ellipse">
              <a:avLst/>
            </a:prstGeom>
            <a:solidFill>
              <a:srgbClr val="0066ff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376600">
              <a:off x="2437200" y="3448440"/>
              <a:ext cx="742680" cy="159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376600">
              <a:off x="1867680" y="2486880"/>
              <a:ext cx="3009960" cy="381600"/>
            </a:xfrm>
            <a:custGeom>
              <a:avLst/>
              <a:gdLst>
                <a:gd name="textAreaLeft" fmla="*/ 0 w 3009960"/>
                <a:gd name="textAreaRight" fmla="*/ 3010320 w 30099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376600">
              <a:off x="788040" y="2494440"/>
              <a:ext cx="3009960" cy="381600"/>
            </a:xfrm>
            <a:custGeom>
              <a:avLst/>
              <a:gdLst>
                <a:gd name="textAreaLeft" fmla="*/ 0 w 3009960"/>
                <a:gd name="textAreaRight" fmla="*/ 3010320 w 30099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0776600">
              <a:off x="2277000" y="3809880"/>
              <a:ext cx="1098720" cy="6415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376600">
              <a:off x="2164680" y="3047400"/>
              <a:ext cx="1159560" cy="235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376600">
              <a:off x="2047320" y="3075840"/>
              <a:ext cx="1442160" cy="235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238720" y="1697040"/>
            <a:ext cx="382608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овой пузырь препятствует контакту дуги с вод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и есть импульсный электрогидравлический удар, при котором образуется кратковременная ударная вол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19320" y="763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Ютк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Разрешение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768320" y="2822400"/>
            <a:ext cx="5581440" cy="3141360"/>
            <a:chOff x="1768320" y="2822400"/>
            <a:chExt cx="5581440" cy="3141360"/>
          </a:xfrm>
        </p:grpSpPr>
        <p:sp>
          <p:nvSpPr>
            <p:cNvPr id="365" name=""/>
            <p:cNvSpPr/>
            <p:nvPr/>
          </p:nvSpPr>
          <p:spPr>
            <a:xfrm>
              <a:off x="4282200" y="4055040"/>
              <a:ext cx="481320" cy="596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1280" y="3939120"/>
              <a:ext cx="767520" cy="8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68320" y="2822400"/>
              <a:ext cx="5581440" cy="3141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7000" y="4055040"/>
              <a:ext cx="5113080" cy="155520"/>
            </a:xfrm>
            <a:custGeom>
              <a:avLst/>
              <a:gdLst>
                <a:gd name="textAreaLeft" fmla="*/ 0 w 5113080"/>
                <a:gd name="textAreaRight" fmla="*/ 5113440 w 511308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27000" y="4575240"/>
              <a:ext cx="5188320" cy="167400"/>
            </a:xfrm>
            <a:custGeom>
              <a:avLst/>
              <a:gdLst>
                <a:gd name="textAreaLeft" fmla="*/ 0 w 5188320"/>
                <a:gd name="textAreaRight" fmla="*/ 5188680 w 51883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466680" y="4219920"/>
              <a:ext cx="497160" cy="392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23040" y="4443120"/>
              <a:ext cx="1026720" cy="891360"/>
            </a:xfrm>
            <a:prstGeom prst="line">
              <a:avLst/>
            </a:prstGeom>
            <a:ln w="540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323040" y="3550680"/>
              <a:ext cx="1026720" cy="854280"/>
            </a:xfrm>
            <a:prstGeom prst="line">
              <a:avLst/>
            </a:prstGeom>
            <a:ln w="540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038560" y="4419720"/>
              <a:ext cx="11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28200">
              <a:off x="6517440" y="4136040"/>
              <a:ext cx="411120" cy="545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74680" y="5140440"/>
            <a:ext cx="1368360" cy="59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01610" y="-11489"/>
                </a:moveTo>
                <a:lnTo>
                  <a:pt x="22803" y="4136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дарная вол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08480" y="2290680"/>
            <a:ext cx="1773360" cy="38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517" y="114222"/>
                </a:moveTo>
                <a:lnTo>
                  <a:pt x="22528" y="64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овой пузыр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21480" y="5241960"/>
            <a:ext cx="1317600" cy="32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860" y="-35478"/>
                </a:moveTo>
                <a:lnTo>
                  <a:pt x="-1249" y="7513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лектр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960" y="2322360"/>
            <a:ext cx="2233440" cy="37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8736" y="121108"/>
                </a:moveTo>
                <a:lnTo>
                  <a:pt x="22337" y="6646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ижущаяся ду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39760" y="6022800"/>
            <a:ext cx="5064480" cy="5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ьный этап пробоя. Дуга контактирует с вод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заставить дугу двигаться со сверхзвуковой скоростью в 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3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3880" y="2840040"/>
            <a:ext cx="5549760" cy="3111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90560" y="3989520"/>
            <a:ext cx="5085000" cy="153720"/>
          </a:xfrm>
          <a:custGeom>
            <a:avLst/>
            <a:gdLst>
              <a:gd name="textAreaLeft" fmla="*/ 0 w 5085000"/>
              <a:gd name="textAreaRight" fmla="*/ 5085360 w 50850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90560" y="4505400"/>
            <a:ext cx="5158080" cy="164880"/>
          </a:xfrm>
          <a:custGeom>
            <a:avLst/>
            <a:gdLst>
              <a:gd name="textAreaLeft" fmla="*/ 0 w 5158080"/>
              <a:gd name="textAreaRight" fmla="*/ 5158440 w 515808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792760" y="4152960"/>
            <a:ext cx="495360" cy="388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49840" y="4373640"/>
            <a:ext cx="1532160" cy="13255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649840" y="3159000"/>
            <a:ext cx="1532160" cy="11779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373640" y="4351320"/>
            <a:ext cx="1149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 rot="16200000">
            <a:off x="5989320" y="4068720"/>
            <a:ext cx="406440" cy="542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Разрешение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заставить дугу двигаться со сверхзвуковой скоростью в 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03480" y="599112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уется воздушный пузыр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Разрешение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заставить дугу двигаться со сверхзвуковой скоростью в 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71800" y="598968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зырь препятствует передачи энергии от пла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93880" y="2840040"/>
            <a:ext cx="5549760" cy="3111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90560" y="3989520"/>
            <a:ext cx="5085000" cy="153720"/>
          </a:xfrm>
          <a:custGeom>
            <a:avLst/>
            <a:gdLst>
              <a:gd name="textAreaLeft" fmla="*/ 0 w 5085000"/>
              <a:gd name="textAreaRight" fmla="*/ 5085360 w 50850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90560" y="4505400"/>
            <a:ext cx="5158080" cy="164880"/>
          </a:xfrm>
          <a:custGeom>
            <a:avLst/>
            <a:gdLst>
              <a:gd name="textAreaLeft" fmla="*/ 0 w 5158080"/>
              <a:gd name="textAreaRight" fmla="*/ 5158440 w 515808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253120" y="4152960"/>
            <a:ext cx="495360" cy="388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46840" y="4373640"/>
            <a:ext cx="1531800" cy="13255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078520" y="3159000"/>
            <a:ext cx="1531800" cy="11779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754080" y="4351320"/>
            <a:ext cx="114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rot="16200000">
            <a:off x="5433840" y="4068720"/>
            <a:ext cx="406440" cy="542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2:11:40Z</dcterms:created>
  <dc:creator>Красицкий</dc:creator>
  <dc:description/>
  <dc:language>en-US</dc:language>
  <cp:lastModifiedBy>gimn4</cp:lastModifiedBy>
  <dcterms:modified xsi:type="dcterms:W3CDTF">2003-05-08T08:04:07Z</dcterms:modified>
  <cp:revision>78</cp:revision>
  <dc:subject>Электрогидрореактивный двигатель</dc:subject>
  <dc:title>Новые применения ЭГРД</dc:title>
</cp:coreProperties>
</file>